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8.png" ContentType="image/png"/>
  <Override PartName="/ppt/media/image3.wmf" ContentType="image/x-wmf"/>
  <Override PartName="/ppt/media/image71.png" ContentType="image/png"/>
  <Override PartName="/ppt/media/image69.wmf" ContentType="image/x-wmf"/>
  <Override PartName="/ppt/media/image70.png" ContentType="image/png"/>
  <Override PartName="/ppt/media/image28.png" ContentType="image/png"/>
  <Override PartName="/ppt/media/image67.png" ContentType="image/png"/>
  <Override PartName="/ppt/media/image2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9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650-98AA-4C53-9ACA-0790B150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1AC-4C5A-4F83-9725-41B19915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AC0-DB73-4BDF-9618-91C7FA5C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013-557D-447C-BB9E-E17E16C7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7B9-37F4-48A8-A2DF-EF95E555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8A6-426C-4CAB-BB30-1039FF35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AC4-522B-4598-922F-32DBD6B8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75E-CDCA-4C70-A5CB-252F385C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E28-E760-4DFB-9AA8-9711AAD6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EE5-2FF4-4F4D-B1F3-3835AD8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300-8752-4E19-AB7E-FD4F9F9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3E4-B934-4270-B188-0D15525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12CB-CC40-4C5A-8B1A-363FFA0B5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6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7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8.pn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pn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image" Target="../media/image49.png"/><Relationship Id="rId48" Type="http://schemas.openxmlformats.org/officeDocument/2006/relationships/image" Target="../media/image50.png"/><Relationship Id="rId4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Analysis via Nonlinear Dimensionality 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in Zh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251604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248520" y="297180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2520" y="1905120"/>
            <a:ext cx="114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4000" y="19051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33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33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2271600"/>
          <a:ext cx="438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71600"/>
                    <a:ext cx="438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324480" y="5181480"/>
          <a:ext cx="895320" cy="14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181480"/>
                    <a:ext cx="89532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724280" y="5410080"/>
          <a:ext cx="887400" cy="13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410080"/>
                    <a:ext cx="887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124080" y="5334120"/>
          <a:ext cx="887400" cy="139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5334120"/>
                    <a:ext cx="88740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371600" y="4800600"/>
          <a:ext cx="887400" cy="139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4800600"/>
                    <a:ext cx="887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124080"/>
          <a:ext cx="887400" cy="139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480" y="3124080"/>
                    <a:ext cx="887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447920" y="1600200"/>
          <a:ext cx="887400" cy="1393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1600200"/>
                    <a:ext cx="887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048120" y="1109520"/>
          <a:ext cx="887400" cy="13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8120" y="1109520"/>
                    <a:ext cx="887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324480" y="1295280"/>
          <a:ext cx="887400" cy="1393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4480" y="1295280"/>
                    <a:ext cx="887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648320" y="1111320"/>
          <a:ext cx="887400" cy="1393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1111320"/>
                    <a:ext cx="887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543800" y="2438280"/>
          <a:ext cx="887400" cy="139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43800" y="2438280"/>
                    <a:ext cx="887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391520" y="4038480"/>
          <a:ext cx="887400" cy="1393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91520" y="4038480"/>
                    <a:ext cx="887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map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371600" y="1219320"/>
            <a:ext cx="6354360" cy="5549400"/>
            <a:chOff x="1371600" y="1219320"/>
            <a:chExt cx="6354360" cy="55494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5783" t="9289" r="12342" b="13765"/>
            <a:stretch/>
          </p:blipFill>
          <p:spPr>
            <a:xfrm>
              <a:off x="3076200" y="2553480"/>
              <a:ext cx="3068640" cy="28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371600" y="3443040"/>
              <a:ext cx="898920" cy="122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6" name=""/>
            <p:cNvSpPr/>
            <p:nvPr/>
          </p:nvSpPr>
          <p:spPr>
            <a:xfrm flipH="1" flipV="1">
              <a:off x="2402280" y="3912840"/>
              <a:ext cx="751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6213240" y="1663920"/>
              <a:ext cx="898920" cy="12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 flipV="1">
              <a:off x="5735880" y="2740320"/>
              <a:ext cx="432000" cy="4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3962880" y="1219320"/>
              <a:ext cx="898920" cy="12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 flipV="1">
              <a:off x="4431600" y="2426400"/>
              <a:ext cx="864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2053080" y="1600560"/>
              <a:ext cx="899280" cy="12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2" name=""/>
            <p:cNvSpPr/>
            <p:nvPr/>
          </p:nvSpPr>
          <p:spPr>
            <a:xfrm flipH="1" flipV="1">
              <a:off x="2993760" y="2719080"/>
              <a:ext cx="5594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6827040" y="3316320"/>
              <a:ext cx="898920" cy="12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 flipV="1">
              <a:off x="6108120" y="4020120"/>
              <a:ext cx="631800" cy="2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7"/>
            <a:stretch/>
          </p:blipFill>
          <p:spPr>
            <a:xfrm>
              <a:off x="2257920" y="5286240"/>
              <a:ext cx="899280" cy="12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6" name=""/>
            <p:cNvSpPr/>
            <p:nvPr/>
          </p:nvSpPr>
          <p:spPr>
            <a:xfrm flipH="1">
              <a:off x="3156840" y="4850640"/>
              <a:ext cx="42300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8"/>
            <a:stretch/>
          </p:blipFill>
          <p:spPr>
            <a:xfrm>
              <a:off x="4098960" y="5540040"/>
              <a:ext cx="899280" cy="122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8" name=""/>
            <p:cNvSpPr/>
            <p:nvPr/>
          </p:nvSpPr>
          <p:spPr>
            <a:xfrm>
              <a:off x="4361760" y="5187960"/>
              <a:ext cx="972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9"/>
            <a:stretch/>
          </p:blipFill>
          <p:spPr>
            <a:xfrm>
              <a:off x="5940360" y="5222520"/>
              <a:ext cx="899280" cy="12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5607720" y="4751280"/>
              <a:ext cx="40068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90720" y="251604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2520" y="1905120"/>
            <a:ext cx="114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4000" y="160020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4000" y="160020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4720" y="40687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270480" y="4648320"/>
            <a:ext cx="1179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334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33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183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werful tool to discover the intrinsic low dimensionality in video traj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distanc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 Dimensionalit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jectory thorough an im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imension emb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Sequence: each image is a point in a high dimension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nlinear dimensionality reduction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2 Norm as distance met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jectory in a low dimension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 Flying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857680"/>
            <a:ext cx="3429000" cy="200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52880" y="2857680"/>
            <a:ext cx="3429000" cy="2009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4040" y="212076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92840" y="2124000"/>
            <a:ext cx="125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313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09480" y="1427040"/>
            <a:ext cx="8229600" cy="5126040"/>
            <a:chOff x="609480" y="1427040"/>
            <a:chExt cx="8229600" cy="512604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22221" t="11759" r="10004" b="13839"/>
            <a:stretch/>
          </p:blipFill>
          <p:spPr>
            <a:xfrm>
              <a:off x="609480" y="1427040"/>
              <a:ext cx="8229600" cy="51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6337440" y="448452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546960" y="330984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812960" y="4500720"/>
              <a:ext cx="2952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6610320" y="460224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6578640" y="286236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352520" y="330048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>
              <a:off x="3200400" y="568152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>
              <a:off x="7508880" y="418608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0"/>
            <a:stretch/>
          </p:blipFill>
          <p:spPr>
            <a:xfrm>
              <a:off x="5175360" y="1722600"/>
              <a:ext cx="2952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1"/>
            <a:stretch/>
          </p:blipFill>
          <p:spPr>
            <a:xfrm>
              <a:off x="793800" y="471636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2"/>
            <a:stretch/>
          </p:blipFill>
          <p:spPr>
            <a:xfrm>
              <a:off x="5470560" y="578952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3"/>
            <a:stretch/>
          </p:blipFill>
          <p:spPr>
            <a:xfrm>
              <a:off x="7327800" y="4237200"/>
              <a:ext cx="2952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4"/>
            <a:stretch/>
          </p:blipFill>
          <p:spPr>
            <a:xfrm>
              <a:off x="3971880" y="169704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5"/>
            <a:stretch/>
          </p:blipFill>
          <p:spPr>
            <a:xfrm>
              <a:off x="961920" y="4836960"/>
              <a:ext cx="2955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6"/>
            <a:stretch/>
          </p:blipFill>
          <p:spPr>
            <a:xfrm>
              <a:off x="6705720" y="546876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7"/>
            <a:stretch/>
          </p:blipFill>
          <p:spPr>
            <a:xfrm>
              <a:off x="7670880" y="322092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8"/>
            <a:stretch/>
          </p:blipFill>
          <p:spPr>
            <a:xfrm>
              <a:off x="2422440" y="190656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9"/>
            <a:stretch/>
          </p:blipFill>
          <p:spPr>
            <a:xfrm>
              <a:off x="1469880" y="4643280"/>
              <a:ext cx="2955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0"/>
            <a:stretch/>
          </p:blipFill>
          <p:spPr>
            <a:xfrm>
              <a:off x="7870680" y="3081240"/>
              <a:ext cx="2955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1"/>
            <a:stretch/>
          </p:blipFill>
          <p:spPr>
            <a:xfrm>
              <a:off x="2603520" y="205272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2"/>
            <a:stretch/>
          </p:blipFill>
          <p:spPr>
            <a:xfrm>
              <a:off x="2413080" y="573552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3"/>
            <a:stretch/>
          </p:blipFill>
          <p:spPr>
            <a:xfrm>
              <a:off x="2521080" y="519264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4"/>
            <a:stretch/>
          </p:blipFill>
          <p:spPr>
            <a:xfrm>
              <a:off x="6975360" y="4255920"/>
              <a:ext cx="2955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5"/>
            <a:stretch/>
          </p:blipFill>
          <p:spPr>
            <a:xfrm>
              <a:off x="7658280" y="244008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6"/>
            <a:stretch/>
          </p:blipFill>
          <p:spPr>
            <a:xfrm>
              <a:off x="1006560" y="373212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7"/>
            <a:stretch/>
          </p:blipFill>
          <p:spPr>
            <a:xfrm>
              <a:off x="4660920" y="593568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8"/>
            <a:stretch/>
          </p:blipFill>
          <p:spPr>
            <a:xfrm>
              <a:off x="7553160" y="4348080"/>
              <a:ext cx="2955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9"/>
            <a:stretch/>
          </p:blipFill>
          <p:spPr>
            <a:xfrm>
              <a:off x="4657680" y="1598760"/>
              <a:ext cx="2952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0"/>
            <a:stretch/>
          </p:blipFill>
          <p:spPr>
            <a:xfrm>
              <a:off x="6553080" y="5075280"/>
              <a:ext cx="2955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1"/>
            <a:stretch/>
          </p:blipFill>
          <p:spPr>
            <a:xfrm>
              <a:off x="7226280" y="385596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2"/>
            <a:stretch/>
          </p:blipFill>
          <p:spPr>
            <a:xfrm>
              <a:off x="2793960" y="192240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3"/>
            <a:stretch/>
          </p:blipFill>
          <p:spPr>
            <a:xfrm>
              <a:off x="7763040" y="440856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4"/>
            <a:stretch/>
          </p:blipFill>
          <p:spPr>
            <a:xfrm>
              <a:off x="1619280" y="492588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5"/>
            <a:stretch/>
          </p:blipFill>
          <p:spPr>
            <a:xfrm>
              <a:off x="6804000" y="471960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6"/>
            <a:stretch/>
          </p:blipFill>
          <p:spPr>
            <a:xfrm>
              <a:off x="7175520" y="3164040"/>
              <a:ext cx="2952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7"/>
            <a:stretch/>
          </p:blipFill>
          <p:spPr>
            <a:xfrm>
              <a:off x="2394000" y="212868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8"/>
            <a:stretch/>
          </p:blipFill>
          <p:spPr>
            <a:xfrm>
              <a:off x="2308320" y="559260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9"/>
            <a:stretch/>
          </p:blipFill>
          <p:spPr>
            <a:xfrm>
              <a:off x="7159680" y="432576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0"/>
            <a:stretch/>
          </p:blipFill>
          <p:spPr>
            <a:xfrm>
              <a:off x="7248600" y="253512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1"/>
            <a:stretch/>
          </p:blipFill>
          <p:spPr>
            <a:xfrm>
              <a:off x="5997600" y="2090880"/>
              <a:ext cx="2952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2"/>
            <a:stretch/>
          </p:blipFill>
          <p:spPr>
            <a:xfrm>
              <a:off x="1542960" y="377676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3"/>
            <a:stretch/>
          </p:blipFill>
          <p:spPr>
            <a:xfrm>
              <a:off x="6026040" y="5357880"/>
              <a:ext cx="2955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4"/>
            <a:stretch/>
          </p:blipFill>
          <p:spPr>
            <a:xfrm>
              <a:off x="6921360" y="3338640"/>
              <a:ext cx="29556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5"/>
            <a:stretch/>
          </p:blipFill>
          <p:spPr>
            <a:xfrm>
              <a:off x="2003400" y="211284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6"/>
            <a:stretch/>
          </p:blipFill>
          <p:spPr>
            <a:xfrm>
              <a:off x="1765440" y="262080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7"/>
            <a:stretch/>
          </p:blipFill>
          <p:spPr>
            <a:xfrm>
              <a:off x="7007400" y="4786200"/>
              <a:ext cx="2952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8"/>
            <a:stretch/>
          </p:blipFill>
          <p:spPr>
            <a:xfrm>
              <a:off x="1143000" y="4246560"/>
              <a:ext cx="2952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105160" cy="382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876480" cy="273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ing vs. non-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zed 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4864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oral Super-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705040"/>
            <a:ext cx="4038480" cy="231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2705040"/>
            <a:ext cx="4038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3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68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e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76400" y="2562120"/>
            <a:ext cx="5191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40:07Z</dcterms:created>
  <dc:creator>Ke 'Colin' Zheng</dc:creator>
  <dc:description/>
  <dc:language>en-US</dc:language>
  <cp:lastModifiedBy>Ke 'Colin' Zheng</cp:lastModifiedBy>
  <dcterms:modified xsi:type="dcterms:W3CDTF">2004-06-04T18:32:53Z</dcterms:modified>
  <cp:revision>8</cp:revision>
  <dc:subject/>
  <dc:title>Video Analysis via Nonlinear Dimension Reduction Technique</dc:title>
</cp:coreProperties>
</file>