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353-FFB9-4FD0-AF76-383F054C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EE7-5F91-4DA6-9070-95F9C0ED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ACA-DF40-4A20-BB86-61B8EC5D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548-5586-4C93-921C-95E97D78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2D8-67BF-4717-8C4B-5F50A83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23C-7691-46A2-94DD-CBA2192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1BD-D223-4A65-ADE4-BB8F447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8BA-131C-46D6-A108-499120DA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645-344C-4A44-9835-1C94816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A45-8EDE-432C-8D6F-E91A7D9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BDF-83E3-4C73-A727-78C53B59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E3C-EB6D-4910-AAA8-0A0757B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CAC-2A5A-4737-9995-6CA0DC11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Matting Using Belief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in Zh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342720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42720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30640" y="4179960"/>
            <a:ext cx="34275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4275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182700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1827360" cy="2741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1827360" cy="2741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858000" y="2743200"/>
            <a:ext cx="1828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433600"/>
            <a:ext cx="403848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2433600"/>
            <a:ext cx="4038480" cy="270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8360" y="54244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ng-Yu’s Bayesian 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4640" y="54244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Method Using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 Analys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24480" y="1766880"/>
            <a:ext cx="1508400" cy="15080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38600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819520" y="4648320"/>
            <a:ext cx="1523880" cy="15238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800600" y="4651200"/>
            <a:ext cx="1523880" cy="15242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438280" y="2452680"/>
            <a:ext cx="38862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0120" y="63244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6320" y="633888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 Analys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43200" y="4572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952880" y="4572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162920" y="4572000"/>
            <a:ext cx="1425600" cy="1425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6280" y="617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617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5400" y="617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09720" y="617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00800" y="1538280"/>
            <a:ext cx="2276640" cy="1708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1538280"/>
            <a:ext cx="2276280" cy="1708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81280" y="1538280"/>
            <a:ext cx="2276640" cy="170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32600" y="3367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ssian Mixtur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6480" y="3367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1828800"/>
            <a:ext cx="38088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828800"/>
            <a:ext cx="38088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rcRect l="0" t="14665" r="78013" b="57335"/>
          <a:stretch/>
        </p:blipFill>
        <p:spPr>
          <a:xfrm>
            <a:off x="2743200" y="41911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1002" t="14665" r="77011" b="58671"/>
          <a:stretch/>
        </p:blipFill>
        <p:spPr>
          <a:xfrm>
            <a:off x="4876920" y="4191120"/>
            <a:ext cx="1676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d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65640" y="4599000"/>
            <a:ext cx="189216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4599000"/>
            <a:ext cx="1892160" cy="126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880" y="160020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 + (1 –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2846520"/>
            <a:ext cx="19098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52680" y="2846520"/>
            <a:ext cx="19098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67520" y="2851200"/>
            <a:ext cx="19098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F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880" y="160020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 + (1 –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880" y="160020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 + (1 –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C, an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up with F, B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01880" y="352908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88080" y="3527280"/>
            <a:ext cx="32652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203480"/>
          <a:ext cx="40384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03480"/>
                    <a:ext cx="40384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203480"/>
          <a:ext cx="40384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03480"/>
                    <a:ext cx="40384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00560" y="2216160"/>
            <a:ext cx="2933640" cy="202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25920" y="472428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: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" y="1198440"/>
            <a:ext cx="4049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hood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SE Estimate by Margin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447920"/>
          <a:ext cx="4508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508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971800" y="27432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3200" y="2438280"/>
            <a:ext cx="533160" cy="304920"/>
            <a:chOff x="2743200" y="2438280"/>
            <a:chExt cx="533160" cy="304920"/>
          </a:xfrm>
        </p:grpSpPr>
        <p:sp>
          <p:nvSpPr>
            <p:cNvPr id="74" name=""/>
            <p:cNvSpPr/>
            <p:nvPr/>
          </p:nvSpPr>
          <p:spPr>
            <a:xfrm>
              <a:off x="2895480" y="2438280"/>
              <a:ext cx="76320" cy="76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3200" y="2590920"/>
              <a:ext cx="7596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2514600"/>
              <a:ext cx="75960" cy="76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7760" y="2438280"/>
              <a:ext cx="76320" cy="76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7760" y="2590920"/>
              <a:ext cx="7632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5480" y="2590920"/>
              <a:ext cx="7632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666880"/>
              <a:ext cx="75960" cy="76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14600" y="3200400"/>
            <a:ext cx="533520" cy="228600"/>
            <a:chOff x="2514600" y="3200400"/>
            <a:chExt cx="533520" cy="228600"/>
          </a:xfrm>
        </p:grpSpPr>
        <p:sp>
          <p:nvSpPr>
            <p:cNvPr id="82" name=""/>
            <p:cNvSpPr/>
            <p:nvPr/>
          </p:nvSpPr>
          <p:spPr>
            <a:xfrm>
              <a:off x="2819520" y="3200400"/>
              <a:ext cx="76320" cy="7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9520" y="3352680"/>
              <a:ext cx="76320" cy="7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7240" y="3200400"/>
              <a:ext cx="75960" cy="7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4600" y="3276720"/>
              <a:ext cx="76320" cy="75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67240" y="3352680"/>
              <a:ext cx="75960" cy="7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71800" y="3352680"/>
              <a:ext cx="76320" cy="7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648320" y="3200400"/>
            <a:ext cx="3941640" cy="1295280"/>
            <a:chOff x="4648320" y="3200400"/>
            <a:chExt cx="3941640" cy="1295280"/>
          </a:xfrm>
        </p:grpSpPr>
        <p:graphicFrame>
          <p:nvGraphicFramePr>
            <p:cNvPr id="89" name=""/>
            <p:cNvGraphicFramePr/>
            <p:nvPr/>
          </p:nvGraphicFramePr>
          <p:xfrm>
            <a:off x="4648320" y="3200400"/>
            <a:ext cx="3941640" cy="63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3200400"/>
                      <a:ext cx="394164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5796360" y="4127400"/>
            <a:ext cx="1152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6360" y="4127400"/>
                      <a:ext cx="1152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ighborhood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92720" y="2895480"/>
            <a:ext cx="3760560" cy="1951200"/>
            <a:chOff x="4392720" y="2895480"/>
            <a:chExt cx="3760560" cy="1951200"/>
          </a:xfrm>
        </p:grpSpPr>
        <p:graphicFrame>
          <p:nvGraphicFramePr>
            <p:cNvPr id="95" name=""/>
            <p:cNvGraphicFramePr/>
            <p:nvPr/>
          </p:nvGraphicFramePr>
          <p:xfrm>
            <a:off x="4392720" y="2895480"/>
            <a:ext cx="3760560" cy="84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92720" y="2895480"/>
                      <a:ext cx="3760560" cy="84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4520160" y="3903120"/>
            <a:ext cx="3404880" cy="94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20160" y="3903120"/>
                      <a:ext cx="3404880" cy="94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63720" y="2819520"/>
            <a:ext cx="29336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21:41:03Z</dcterms:created>
  <dc:creator>Colin Zheng</dc:creator>
  <dc:description/>
  <dc:language>en-US</dc:language>
  <cp:lastModifiedBy>Colin Zheng</cp:lastModifiedBy>
  <dcterms:modified xsi:type="dcterms:W3CDTF">2004-04-23T20:19:54Z</dcterms:modified>
  <cp:revision>4</cp:revision>
  <dc:subject/>
  <dc:title>Alpha Matting Using Belief Propagation</dc:title>
</cp:coreProperties>
</file>